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7AD0-B794-49D0-BD5D-597562333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953A-1E3C-47E2-9895-850C35C25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E7DF-09D3-47ED-9064-0A9BE907A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7CD3-A9F5-4C1B-905B-A10A31137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3E1CE-351A-43B2-A451-6675B34BC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EFD27-FDBA-4929-94D0-833FB2B9A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39480-A48D-4EEC-86A9-02BD27964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78176-DD54-4C40-BC86-7D7BD0E62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5C600-C079-449A-9F6A-83A78F0C7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47DB6-4041-43A3-9A51-7FDB94DC5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29474-5A2F-4498-B501-AD86FC190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C698-4E8A-46DA-A300-F878D33F2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44184-75D6-48DC-AD0B-A9E12BF27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E0D59-8C80-43AA-83C3-1F162D14A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3C5DC-4B4D-47A3-96E2-A1AFC6228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8A3FA-EEEE-4E24-94B6-02D6050B0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0DAFA-9AC0-41FC-BA38-D98DCB4A0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FFCC-C341-4615-9704-9B38A139C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9B49-EF65-4CFE-9955-0C0280A80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51FB-21A1-4452-8D12-9EDBB6FA0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5A43-BB51-4E22-BBE1-17AF79D13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7A22-B630-4ED6-B9AF-230BE3B31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A933-5B78-4317-A6CB-816C0CFDD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082E-2CA2-4656-9050-87EEF504B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aa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aaaac6"/>
                </a:gs>
                <a:gs pos="50000">
                  <a:srgbClr val="ffffff"/>
                </a:gs>
                <a:gs pos="100000">
                  <a:srgbClr val="aaaac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aaaac6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aaaac6"/>
                </a:gs>
                <a:gs pos="50000">
                  <a:srgbClr val="ffffff"/>
                </a:gs>
                <a:gs pos="100000">
                  <a:srgbClr val="aaaac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aaac6"/>
                </a:gs>
                <a:gs pos="50000">
                  <a:srgbClr val="ffffff"/>
                </a:gs>
                <a:gs pos="100000">
                  <a:srgbClr val="aaaac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aaaac6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aaaac6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aaaac6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2915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99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ABA68-2277-48F5-B8D2-DB22ED2E550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aa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aaaac6"/>
                </a:gs>
                <a:gs pos="50000">
                  <a:srgbClr val="ffffff"/>
                </a:gs>
                <a:gs pos="100000">
                  <a:srgbClr val="aaaac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aaaac6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aaaac6"/>
                </a:gs>
                <a:gs pos="50000">
                  <a:srgbClr val="ffffff"/>
                </a:gs>
                <a:gs pos="100000">
                  <a:srgbClr val="aaaac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aaac6"/>
                </a:gs>
                <a:gs pos="50000">
                  <a:srgbClr val="ffffff"/>
                </a:gs>
                <a:gs pos="100000">
                  <a:srgbClr val="aaaac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aaaac6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aaaac6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aaaac6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F41E6-100B-47FE-868E-5AC85526B60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29157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99ff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aa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761976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aa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762120" y="1133640"/>
            <a:ext cx="7619760" cy="45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12T00:08:15Z</dcterms:created>
  <dc:creator>Student</dc:creator>
  <dc:description/>
  <dc:language>en-US</dc:language>
  <cp:lastModifiedBy>Student</cp:lastModifiedBy>
  <dcterms:modified xsi:type="dcterms:W3CDTF">2012-07-12T00:48:31Z</dcterms:modified>
  <cp:revision>2</cp:revision>
  <dc:subject/>
  <dc:title>Slide 1</dc:title>
</cp:coreProperties>
</file>